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29.xml" ContentType="application/vnd.openxmlformats-officedocument.theme+xml"/>
  <Override PartName="/ppt/theme/theme10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9.xml" ContentType="application/vnd.openxmlformats-officedocument.theme+xml"/>
  <Override PartName="/ppt/theme/theme28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notesMasterIdLst>
    <p:notesMasterId r:id="rId31"/>
  </p:notesMasterIdLst>
  <p:sldIdLst>
    <p:sldId id="256" r:id="rId32"/>
    <p:sldId id="257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notesMaster" Target="notesMasters/notesMaster1.xml"/><Relationship Id="rId32" Type="http://schemas.openxmlformats.org/officeDocument/2006/relationships/slide" Target="slides/slide1.xml"/><Relationship Id="rId33" Type="http://schemas.openxmlformats.org/officeDocument/2006/relationships/slide" Target="slides/slide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ер слай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168-EF07-4980-8738-93A60094E8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Нижний колонтитул 4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 сла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Нижний колонтитул 4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ер сла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F926-F8CF-4A8A-9859-5F02CA3040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B7E7E-89AA-47A0-8D44-4861870B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DB4A-04DD-423D-AB6C-997E5658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E91AD-A235-4F3B-8CDE-D1B636302F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A844A-2B46-4640-8A27-8AC1C70B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EB47C-B448-43F5-B72C-B6CB0CDE60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DE4F0-D8B3-40E3-9C65-FA44785F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5E7D3-3169-4E37-9DE1-91B2E1A9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39184-0BCB-4029-884E-7D985753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442D7-BBFE-44A6-8265-5FB10590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4738-4F77-4C3F-90BC-E6B2F796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371F6-59EF-482F-BBD2-78717B12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10191-BE54-4E54-B4E4-FCF9CF5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83D7D-356E-484C-A11B-C0AFC974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45CD5-1588-4773-9F08-0C7187EC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53999-DBA2-4C5D-A95A-30E12BAA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DB838-1749-449A-A7A9-8116DD84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0896D-0FE1-468D-8FD4-91B4BC4630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3628-C8A6-4751-873D-860DE294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4D350-9F7A-486E-9A3C-F1559B6B86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F62D-D945-4709-A4F8-FBB2E061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6B36E-0018-4314-B6B4-8DFDDD9E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3D464-E033-4D51-ADCD-1D4CA0D1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F0CAE-1036-41B8-BFB1-3DEBCE30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7F786-1EEB-4A1D-ADDE-B5FCD414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72E0E-13A1-40CE-B177-BB5A5FD1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F6D3A-43BA-4AC2-AC3E-8F39D000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86A2D-838D-45F2-836B-A79A32A7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6FD28-9657-444A-86D0-0F5C426C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08020-4757-405F-8B18-C4C1738D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2181C-B957-47A0-8DE3-E5287098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440B-0588-431F-87E2-6FD52F01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035E0-3021-4C89-89BC-C07F79854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99C96-E67E-4B48-8A2E-E77F8791D0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6930F4-6227-479F-B409-BA3028ED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1461F-EBD0-4A8A-A1CC-9BDE08CB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E9B5D5-9004-4628-AECA-F18FBB40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7CD24-2588-4920-9E39-68114D5E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D715C-C179-42A8-A3AD-EBFAE001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12A30-DC1F-4853-9E8A-D0C9C2CC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D20D6-5323-4A80-8017-77A9585E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8B2C90-049A-4BA1-A090-D671D4B4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2A795-6BE7-4F72-AC92-076CFA71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434C5-260A-4F73-AE12-7FEBEB6D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75C9E-FE30-414B-A47F-C4048962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C960AB-F2E5-46C3-9AF2-2F80F5EB59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5BDBC-EA9F-4309-8AE1-E021DBF6B9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ED2B7-1F02-4DB1-831C-85193D5A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F95B-550C-46EF-B1C0-34158C5A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B8C6F-B580-423D-9D08-3EA61DBE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E73BA-FCCA-47C8-901E-1C2161D51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EE7EF-D102-4191-9296-816ACC00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86A38-E2FC-4D1C-837F-6CC442BD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6AEC-B207-4469-921B-47BCFA5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35D8-FB05-4153-8EB6-A9DA4AA8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3D169-00C8-4549-BBBC-D29BF415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513C4-C950-4BC9-B97E-AA4F44F2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B4D35-24D2-4807-8765-99D34B5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AA20-B50F-4CF1-8BBB-0F2CA060B9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83CD-9555-44EA-B9FA-DC06FA64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109760" y="106200"/>
            <a:ext cx="461484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0040" y="3964320"/>
            <a:ext cx="821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09880" y="160020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004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09880" y="3964320"/>
            <a:ext cx="4008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7744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55200" y="160020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00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7744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55200" y="3964320"/>
            <a:ext cx="264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215040"/>
            <a:ext cx="30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95AA-9C95-4F64-BECC-94294BA74527}" type="datetime">
              <a:rPr b="0" lang="en-US" sz="8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2577-0E2F-4836-B0D5-396EF8C77C6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C139C-8D44-4EBA-8D6F-3A43466A217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7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A62BF-25D0-41DE-9316-CF91EE23BFC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410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1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5275D-F369-4F86-8E24-E22F4CEF89D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453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54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7AB2A-BD9B-4456-B0E5-0293C5E79F7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496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7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7840F-3283-4205-BE62-84F7E18ECC5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539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0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0EA9D-202F-4355-801A-0F050F4BD2E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1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582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3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4FB5E-A292-4C5D-8184-F7ADF2ADE68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4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625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6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24632-AD24-4975-81C1-4958D042E1C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7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668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9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7288A-D460-4C09-92EA-FF9ADBF03BF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711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2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81D7E-6681-4FFC-9183-3744FD4CFE1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3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754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5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5683D-7C22-4D56-9D14-C98747C7C78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797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8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51790-075E-4542-AE96-C55E994A862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48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2" descr="G:\New templates\Утв.шаблон\mts-presentation_rus_template_5%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1"/>
          <p:cNvSpPr/>
          <p:nvPr/>
        </p:nvSpPr>
        <p:spPr>
          <a:xfrm>
            <a:off x="431640" y="5977080"/>
            <a:ext cx="25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4592520" y="593640"/>
            <a:ext cx="401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Группа 14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54" name="Прямоугольник 16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" name="Picture 5" descr="C:\Documents and Settings\AKazaryan\Рабочий стол\шаблоны для презы-02.jpg"/>
            <p:cNvPicPr/>
            <p:nvPr/>
          </p:nvPicPr>
          <p:blipFill>
            <a:blip r:embed="rId5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3"/>
          </p:nvPr>
        </p:nvSpPr>
        <p:spPr>
          <a:xfrm>
            <a:off x="394920" y="6215040"/>
            <a:ext cx="30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433E-196E-4ECA-85B7-5CD66B315F8A}" type="datetime">
              <a:rPr b="0" lang="en-US" sz="8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8A065-63EE-4672-9126-678D1141771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9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840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1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1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DB94F-A4C1-4A4E-BCE5-1C845C67DBD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2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883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4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83C80A-79D2-4029-904A-D7F10BD5946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5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926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7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7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E5CA2-3894-466C-82E4-B137EA1CE8F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8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969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0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0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9087F7-8C4F-425C-8397-00E1AEEA9B9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1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1012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3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3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BC524-E114-48FB-AD8E-0A10C1DAD023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4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1055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6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6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8C90AE-7125-4A09-A1F5-18539799310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7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1098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9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9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61A25-D509-43EB-B477-871A6F0AAB0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0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1141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42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B418F-1352-41DE-89D0-B0738EAF4FC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3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1184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5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5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765512-C9AC-42F3-8F6A-D0A0D7B2806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6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1227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8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C48FB-57BD-4210-B69C-774CEA0A7F5E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98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9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394920" y="6215040"/>
            <a:ext cx="30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D0E8-FEDA-4B9D-AB95-880D263F5056}" type="datetime">
              <a: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5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5F11-D0A4-4401-9F25-4FE0F178117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A5215-02E3-45EE-9E92-DB7C3BF78CC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143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Box 12"/>
          <p:cNvSpPr/>
          <p:nvPr/>
        </p:nvSpPr>
        <p:spPr>
          <a:xfrm>
            <a:off x="4560840" y="2987640"/>
            <a:ext cx="406080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4568760" y="379440"/>
            <a:ext cx="410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6"/>
          </p:nvPr>
        </p:nvSpPr>
        <p:spPr>
          <a:xfrm>
            <a:off x="394920" y="6215040"/>
            <a:ext cx="30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C566-CD82-44D1-9890-87774BAE8165}" type="datetime">
              <a: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CFA56-3A64-4126-9FC9-79123E7B367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189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7"/>
          </p:nvPr>
        </p:nvSpPr>
        <p:spPr>
          <a:xfrm>
            <a:off x="394920" y="6215040"/>
            <a:ext cx="30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2DF7-C876-434D-AF3E-F307C9625E72}" type="datetime">
              <a: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8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5917-E65E-4E4B-AD57-DC037B6FDCE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F1F12-0DBB-4465-85A5-4DFFF839227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3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234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5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9"/>
          </p:nvPr>
        </p:nvSpPr>
        <p:spPr>
          <a:xfrm>
            <a:off x="394920" y="6215040"/>
            <a:ext cx="30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45D9-65E4-4EBD-902A-7772B107AD3B}" type="datetime">
              <a: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0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E623-1A2A-44F5-B555-1F7652C892B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03610-B049-43D5-89F9-0DD82C633CA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279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0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1"/>
          </p:nvPr>
        </p:nvSpPr>
        <p:spPr>
          <a:xfrm>
            <a:off x="394920" y="6215040"/>
            <a:ext cx="30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64ED-5C2C-4119-B5C6-EBCC89248635}" type="datetime">
              <a:rPr b="0" lang="en-US" sz="8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8C20-4361-4185-92D8-D430A1B49AA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6371E-4117-4D0C-8439-6477C6F9722B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324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5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G:\New templates\Утв.шаблон\mts-presentation_rus_template_5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4"/>
          <p:cNvSpPr/>
          <p:nvPr/>
        </p:nvSpPr>
        <p:spPr>
          <a:xfrm>
            <a:off x="8109000" y="6543720"/>
            <a:ext cx="533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5B1CA-5218-4A5D-A2AF-355ADF961826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Группа 9"/>
          <p:cNvGrpSpPr/>
          <p:nvPr/>
        </p:nvGrpSpPr>
        <p:grpSpPr>
          <a:xfrm>
            <a:off x="507960" y="198360"/>
            <a:ext cx="2517840" cy="905040"/>
            <a:chOff x="507960" y="198360"/>
            <a:chExt cx="2517840" cy="905040"/>
          </a:xfrm>
        </p:grpSpPr>
        <p:sp>
          <p:nvSpPr>
            <p:cNvPr id="367" name="Прямоугольник 10"/>
            <p:cNvSpPr/>
            <p:nvPr/>
          </p:nvSpPr>
          <p:spPr>
            <a:xfrm>
              <a:off x="507960" y="198360"/>
              <a:ext cx="2517840" cy="90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8" name="Picture 5" descr="C:\Documents and Settings\AKazaryan\Рабочий стол\шаблоны для презы-02.jpg"/>
            <p:cNvPicPr/>
            <p:nvPr/>
          </p:nvPicPr>
          <p:blipFill>
            <a:blip r:embed="rId3"/>
            <a:srcRect l="74063" t="89692" r="0" b="0"/>
            <a:stretch/>
          </p:blipFill>
          <p:spPr>
            <a:xfrm>
              <a:off x="507960" y="313560"/>
              <a:ext cx="1966320" cy="58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8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a8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00040" y="1600200"/>
            <a:ext cx="82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40000" y="259920"/>
            <a:ext cx="46148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иложение №5. Фотографии предлагаемого помещения</a:t>
            </a:r>
            <a:endParaRPr b="0" lang="en-US" sz="2000" spc="-1" strike="noStrike">
              <a:solidFill>
                <a:srgbClr val="a80000"/>
              </a:solidFill>
              <a:latin typeface="Arial"/>
            </a:endParaRPr>
          </a:p>
        </p:txBody>
      </p:sp>
      <p:pic>
        <p:nvPicPr>
          <p:cNvPr id="1275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3600360" cy="232272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600360" cy="2320920"/>
          </a:xfrm>
          <a:prstGeom prst="rect">
            <a:avLst/>
          </a:prstGeom>
          <a:ln w="0">
            <a:noFill/>
          </a:ln>
        </p:spPr>
      </p:pic>
      <p:pic>
        <p:nvPicPr>
          <p:cNvPr id="1277" name="Picture 2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2" descr=""/>
          <p:cNvPicPr/>
          <p:nvPr/>
        </p:nvPicPr>
        <p:blipFill>
          <a:blip r:embed="rId4"/>
          <a:stretch/>
        </p:blipFill>
        <p:spPr>
          <a:xfrm>
            <a:off x="4643280" y="3716280"/>
            <a:ext cx="3745080" cy="2803680"/>
          </a:xfrm>
          <a:prstGeom prst="rect">
            <a:avLst/>
          </a:prstGeom>
          <a:ln w="0">
            <a:noFill/>
          </a:ln>
        </p:spPr>
      </p:pic>
      <p:sp>
        <p:nvSpPr>
          <p:cNvPr id="1279" name="Прямая соединительная линия 15"/>
          <p:cNvSpPr/>
          <p:nvPr/>
        </p:nvSpPr>
        <p:spPr>
          <a:xfrm>
            <a:off x="2627280" y="2924280"/>
            <a:ext cx="720720" cy="144360"/>
          </a:xfrm>
          <a:prstGeom prst="line">
            <a:avLst/>
          </a:prstGeom>
          <a:ln w="93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Прямая соединительная линия 17"/>
          <p:cNvSpPr/>
          <p:nvPr/>
        </p:nvSpPr>
        <p:spPr>
          <a:xfrm flipV="1">
            <a:off x="2700360" y="3212640"/>
            <a:ext cx="647640" cy="71640"/>
          </a:xfrm>
          <a:prstGeom prst="line">
            <a:avLst/>
          </a:prstGeom>
          <a:ln w="93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Прямая соединительная линия 19"/>
          <p:cNvSpPr/>
          <p:nvPr/>
        </p:nvSpPr>
        <p:spPr>
          <a:xfrm>
            <a:off x="3348000" y="3068640"/>
            <a:ext cx="0" cy="144360"/>
          </a:xfrm>
          <a:prstGeom prst="line">
            <a:avLst/>
          </a:prstGeom>
          <a:ln w="93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Прямая соединительная линия 21"/>
          <p:cNvSpPr/>
          <p:nvPr/>
        </p:nvSpPr>
        <p:spPr>
          <a:xfrm>
            <a:off x="2627280" y="2924280"/>
            <a:ext cx="0" cy="360360"/>
          </a:xfrm>
          <a:prstGeom prst="line">
            <a:avLst/>
          </a:prstGeom>
          <a:ln w="93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Прямая соединительная линия 25"/>
          <p:cNvSpPr/>
          <p:nvPr/>
        </p:nvSpPr>
        <p:spPr>
          <a:xfrm flipV="1">
            <a:off x="5580000" y="1341360"/>
            <a:ext cx="1656000" cy="719280"/>
          </a:xfrm>
          <a:prstGeom prst="line">
            <a:avLst/>
          </a:prstGeom>
          <a:ln w="93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Прямая соединительная линия 27"/>
          <p:cNvSpPr/>
          <p:nvPr/>
        </p:nvSpPr>
        <p:spPr>
          <a:xfrm>
            <a:off x="5580000" y="2060640"/>
            <a:ext cx="0" cy="720720"/>
          </a:xfrm>
          <a:prstGeom prst="line">
            <a:avLst/>
          </a:prstGeom>
          <a:ln w="93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Прямая соединительная линия 29"/>
          <p:cNvSpPr/>
          <p:nvPr/>
        </p:nvSpPr>
        <p:spPr>
          <a:xfrm>
            <a:off x="5580000" y="2852640"/>
            <a:ext cx="2808360" cy="647640"/>
          </a:xfrm>
          <a:prstGeom prst="line">
            <a:avLst/>
          </a:prstGeom>
          <a:ln w="936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Заголовок 1"/>
          <p:cNvSpPr/>
          <p:nvPr/>
        </p:nvSpPr>
        <p:spPr>
          <a:xfrm>
            <a:off x="5148360" y="6165720"/>
            <a:ext cx="2879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Вид из помещения на улиц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Заголовок 1"/>
          <p:cNvSpPr/>
          <p:nvPr/>
        </p:nvSpPr>
        <p:spPr>
          <a:xfrm>
            <a:off x="1187280" y="6165720"/>
            <a:ext cx="2880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Внутри помещ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109760" y="106200"/>
            <a:ext cx="461484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иложение №5. Фотографии предлагаемого помещения</a:t>
            </a:r>
            <a:endParaRPr b="0" lang="en-US" sz="2000" spc="-1" strike="noStrike">
              <a:solidFill>
                <a:srgbClr val="a80000"/>
              </a:solidFill>
              <a:latin typeface="Arial"/>
            </a:endParaRPr>
          </a:p>
        </p:txBody>
      </p:sp>
      <p:pic>
        <p:nvPicPr>
          <p:cNvPr id="1289" name="Picture 2" descr="L:\Общие Документы\Соколянская\Место для Банка (ул. Навагинская 9Д)\внутри\P6180040.JPG"/>
          <p:cNvPicPr/>
          <p:nvPr/>
        </p:nvPicPr>
        <p:blipFill>
          <a:blip r:embed="rId1"/>
          <a:stretch/>
        </p:blipFill>
        <p:spPr>
          <a:xfrm>
            <a:off x="971640" y="1341360"/>
            <a:ext cx="3249360" cy="2436840"/>
          </a:xfrm>
          <a:prstGeom prst="rect">
            <a:avLst/>
          </a:prstGeom>
          <a:ln w="0">
            <a:noFill/>
          </a:ln>
        </p:spPr>
      </p:pic>
      <p:sp>
        <p:nvSpPr>
          <p:cNvPr id="1290" name="Заголовок 1"/>
          <p:cNvSpPr/>
          <p:nvPr/>
        </p:nvSpPr>
        <p:spPr>
          <a:xfrm>
            <a:off x="1763640" y="1844640"/>
            <a:ext cx="187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потоло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1" name="Picture 5" descr="L:\Общие Документы\Соколянская\Место для Банка (ул. Навагинская 9Д)\внутри\P6180043.JPG"/>
          <p:cNvPicPr/>
          <p:nvPr/>
        </p:nvPicPr>
        <p:blipFill>
          <a:blip r:embed="rId2"/>
          <a:stretch/>
        </p:blipFill>
        <p:spPr>
          <a:xfrm>
            <a:off x="4859280" y="1413000"/>
            <a:ext cx="3025800" cy="2268360"/>
          </a:xfrm>
          <a:prstGeom prst="rect">
            <a:avLst/>
          </a:prstGeom>
          <a:ln w="0">
            <a:noFill/>
          </a:ln>
        </p:spPr>
      </p:pic>
      <p:sp>
        <p:nvSpPr>
          <p:cNvPr id="1292" name="Заголовок 1"/>
          <p:cNvSpPr/>
          <p:nvPr/>
        </p:nvSpPr>
        <p:spPr>
          <a:xfrm>
            <a:off x="5219640" y="2060640"/>
            <a:ext cx="1873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по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3" name="Picture 6" descr="L:\Общие Документы\Соколянская\Место для Банка (ул. Навагинская 9Д)\внутри\P6180045.JPG"/>
          <p:cNvPicPr/>
          <p:nvPr/>
        </p:nvPicPr>
        <p:blipFill>
          <a:blip r:embed="rId3"/>
          <a:stretch/>
        </p:blipFill>
        <p:spPr>
          <a:xfrm>
            <a:off x="1979640" y="3860640"/>
            <a:ext cx="2232000" cy="2976840"/>
          </a:xfrm>
          <a:prstGeom prst="rect">
            <a:avLst/>
          </a:prstGeom>
          <a:ln w="0">
            <a:noFill/>
          </a:ln>
        </p:spPr>
      </p:pic>
      <p:sp>
        <p:nvSpPr>
          <p:cNvPr id="1294" name="Заголовок 1"/>
          <p:cNvSpPr/>
          <p:nvPr/>
        </p:nvSpPr>
        <p:spPr>
          <a:xfrm>
            <a:off x="2050920" y="4653000"/>
            <a:ext cx="1873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Вид боковой стен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5" name="Picture 7" descr="L:\Общие Документы\Соколянская\Место для Банка (ул. Навагинская 9Д)\внутри\P6180048.JPG"/>
          <p:cNvPicPr/>
          <p:nvPr/>
        </p:nvPicPr>
        <p:blipFill>
          <a:blip r:embed="rId4"/>
          <a:stretch/>
        </p:blipFill>
        <p:spPr>
          <a:xfrm>
            <a:off x="4859280" y="4076640"/>
            <a:ext cx="3097440" cy="2089080"/>
          </a:xfrm>
          <a:prstGeom prst="rect">
            <a:avLst/>
          </a:prstGeom>
          <a:ln w="0">
            <a:noFill/>
          </a:ln>
        </p:spPr>
      </p:pic>
      <p:sp>
        <p:nvSpPr>
          <p:cNvPr id="1296" name="Заголовок 1"/>
          <p:cNvSpPr/>
          <p:nvPr/>
        </p:nvSpPr>
        <p:spPr>
          <a:xfrm>
            <a:off x="4932360" y="6237360"/>
            <a:ext cx="287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Вид из помещения на улиц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13:06:19Z</dcterms:created>
  <dc:creator>aluzina</dc:creator>
  <dc:description/>
  <dc:language>en-US</dc:language>
  <cp:lastModifiedBy>VPopov</cp:lastModifiedBy>
  <dcterms:modified xsi:type="dcterms:W3CDTF">2012-07-17T12:57:20Z</dcterms:modified>
  <cp:revision>238</cp:revision>
  <dc:subject/>
  <dc:title>Заголовок  Подзаголовок</dc:title>
</cp:coreProperties>
</file>